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84AD-C2F9-41FE-8009-7872D05F3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hows how Compendium contributes to expanded M&amp;E activities through use of M&amp;E framework, new indicators for key DOTS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a visual of how all the elements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for understanding and analyzing 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and output are murky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how Compendium was develop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 of assessment visits was to see what was already out there – we did not want to increase the burden of data collection but also knew that many programs already collected so much info – wanted to see if we could use data that are collected but not reported or even used to identify problems or for program impro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chosen based on region and presence of specific program types and challe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untry – met with key partners and visited faciity, district and national level offices to review data collection and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s – go over these.  Third bullet – case detection and treatment outcome data already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of expanded DOTS frameword and an example of an indicator from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 1 – This refers to input, process, output, outcome, impact.  The idea is to get everyone on the same “page” in terms of how we think about M&amp;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 2 – Also aimed at standardization, but in terms of what is actually reported.  Making sure everyone uses the same numerators and denominators, criteria for assessing qualitative indic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 3 - Provide guidance for the development of comprehensive evaluation plans, including selection of indicators to measure progress in specific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 4 – Go beyond indicators, provide information/guidance on planning for M&amp;E and strengthening M&amp;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cus is on disease control, where a patient centered or quality approach may serve us b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und for AIDS, TB and Malaria, which recommends 10% of program budgets go to M&amp;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 TB – encouraging M&amp;E under expanded DOTS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AID – went from spending very little in 1998 (8 million) to over 200 million last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s between TB and HIV epide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Plus – to qualify for drugs from Green Light Committee, countries needed more systematic monitoring and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– this is the core of M&amp;E prior to Compendium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a visual of how all the elements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for understanding and analyzing 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and output are murky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D4F-8C94-4B23-9D0D-CFBD0F27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BA1-1330-4D31-89A9-83BC6612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2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33F-504C-4BEA-B596-E52333A0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7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496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7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496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5DD-E588-4671-82E6-2F063A3B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CC1-91AD-49B8-B357-C9CC7281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D51-3889-424F-964E-A4EA9B3B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536-4C9A-4625-BF42-F95FBA07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FBD-40EC-4DAD-8310-9DC5E4A3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2DC-54F7-48E5-9C72-FCC063A3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6A4-0792-4962-9982-E6B1ED7C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2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2D0-3016-4FFC-AE31-625A1D50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E09-4AFD-4C68-8607-C799224B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53D1-01E6-4AC7-A9FC-59D69A600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0024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57520" cy="819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52280" y="6029280"/>
            <a:ext cx="91440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0560" y="342900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mpendium of Indicators for Monitoring and Evaluating National Tuberculosis Program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5791320"/>
            <a:ext cx="2979720" cy="885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676520" y="5257800"/>
            <a:ext cx="1447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1844640"/>
            <a:ext cx="1447560" cy="295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Policy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Human and Financial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1844640"/>
            <a:ext cx="1752480" cy="323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Drug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1844640"/>
            <a:ext cx="1600200" cy="37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Diagnostic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Treatment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mproved knowledge, attitudes, and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duced sti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1844640"/>
            <a:ext cx="1944720" cy="129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ase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Treatment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51640" y="1844640"/>
            <a:ext cx="1447920" cy="26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evalence of TB inf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evalence of TB dis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B morb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B mort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533520"/>
            <a:ext cx="82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M&amp;E Framework for TB Pro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37320" y="4564080"/>
            <a:ext cx="127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51640" y="259092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3120" y="6093000"/>
            <a:ext cx="811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7, Compendium of Indicators for Monitoring and Evaluating National Tuberculosis Pro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SAID, MEASURE, CDC, WHO, IUATLD, KNCV, MSH. WHO/HTM/TB/2004.344, August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mpendium Developmen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tep 1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 Assessment of existing M&amp;E systems within National TB programs and MOH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tep 2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 Create an international TB M&amp;E Working group to develop and review indicators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tep 3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 Field test indicators in selected countri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tep 4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 Build capacity in M&amp;E to collect, disseminate and use information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Step 1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: Assessment of current M&amp;E systems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eld visits to examine M&amp;E systems: data collection forms, reporting, supervision, data us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uth Africa, Russia, Honduras, Philippin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et with NTPs, USAID missions, WHO, CDC, local implementing partner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ew of literature on TB indicator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esults from assessment visit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ubstantial amount of data collected at facility level that is not report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eakness in reporting mechanisms for  facility level data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ew indicators on political commitment, IEC activities, drug supply and TB/HIV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ack of data from private sector physician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Step 2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: Creation of international working group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milar goals to develop more informative indicators on program implemen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ring expertise from a wide variety of sources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top TB, WHO, UNION, KNCV, CDC, USAID,  World Bank, MSH, MEASURE/Evalu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esults of TB M&amp;E Working Group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ndicators for DOTS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: Measure key aspects of the TB epidemic in a country and the programmatic response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ased on WHO recommendations and collected through existing syste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xternal &amp; Expert review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Step 3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: Field testing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eru, Kazakhstan, Haiti &amp; Thailan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sion of indicators based on field testing resul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Step 4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: Building capa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43434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gypt (March ‘05), Mexico (April ‘05), Tanzania (September ‘05), India (January ‘06), Eastern Europe (May ‘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echnical assist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Indicators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lobal indicators (5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ase detec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reatment succes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OTS coverag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V seroprevalence among TB cas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rveillance of MDR-TB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outinely reported program outcom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ase detection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mear convers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reatment outcom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95120" y="-3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Indicators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dicators to measure DOTS implementation under expanded framework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olitical commitment (1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TP annual workplan and budge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iagnosis (7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xistence of comprehensive laboratory network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ase management, including DOT (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portion of patients with correct prescrip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rug management (8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xistence of a quality assurance system for drug managemen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Indicators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dicators to measure DOTS implementation under expanded framework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cording &amp; reporting (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ccuracy of reports sent to NT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pervision (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xistence of supervision guidelin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uman resources development (3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portion of health centers with at least one professional trained in the DOTS strateg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ealth systems (1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quitable distribution of DO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Objectives of Session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vide an overview of the development of Compendium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xplain the organization of the Compendium and how indicators are us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vide examples of how each subheading for an indicator guides selection/use of indicator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What is the Compendium?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 comprehensive and standardized collection of the most widely used and recommended indicators for monitoring and evaluation of National TB Programs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Who is it for?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TP managers, data managers, regional and district officer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GO program managers/data managers involved in TB programm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valuation specialis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Health system planners (HMIS etc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yone with responsibility for collecting, processing, analyzing, and presenting data on tuberculosis programs.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Specific Objectiv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tandardize M&amp;E terminology across indicators and programs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ncourage consistent use of indicators to monitor and evaluate program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vide guidance for the development of comprehensive evaluation plans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rve as a resource for the different components of the monitoring and evaluation process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urrent status of TB M&amp;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atient follow up/case management using WHO standardized for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mall number of indicators focusing on outcomes of DOTS implemen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ject-specific monitoring for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eriodic assessment visits at facility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Why a new TB M&amp;E Guide?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ew Global Initiatives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lobal Fund for AIDS, TB &amp; Malaria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TOP TB Partnership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creased USAID involv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B/HIV initiativ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OTS Plu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Why a new TB M&amp;E Guide?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eed for a broader view of M&amp;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puts-processes-outputs-impact: allows better understanding of how to achieve impac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tandardized guidance for global us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gram-based to complement case-manag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gram-specific indicators for different settings, types of progra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1844640"/>
            <a:ext cx="1447560" cy="295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olicy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uman and Financial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1844640"/>
            <a:ext cx="1752480" cy="323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rug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1844640"/>
            <a:ext cx="1600200" cy="37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agnostic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eatment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mproved knowledge, attitudes, and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duced sti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1844640"/>
            <a:ext cx="1944720" cy="129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ase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Treatment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51640" y="1844640"/>
            <a:ext cx="1447920" cy="26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evalence of TB inf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evalence of TB dis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B morb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B mort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25560" y="533520"/>
            <a:ext cx="82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M&amp;E Framework for TB pro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37320" y="4564080"/>
            <a:ext cx="127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51640" y="259092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3120" y="6093000"/>
            <a:ext cx="811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7, Compendium of Indicators for Monitoring and Evaluating National Tuberculosis Pro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SAID, MEASURE, CDC, WHO, IUATLD, KNCV, MSH. WHO/HTM/TB/2004.344, August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8:04:38Z</dcterms:created>
  <dc:creator>smullen</dc:creator>
  <dc:description/>
  <dc:language>en-US</dc:language>
  <cp:lastModifiedBy>Stephanie Mullen</cp:lastModifiedBy>
  <dcterms:modified xsi:type="dcterms:W3CDTF">2006-05-22T20:00:43Z</dcterms:modified>
  <cp:revision>52</cp:revision>
  <dc:subject/>
  <dc:title>No Slide Title</dc:title>
</cp:coreProperties>
</file>